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679-D8E6-4E23-9D60-3590D2FF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A4D-03FB-4B9B-97A1-87782A72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A76-22AC-4BF7-A7B0-BFF64432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18A-84E9-47F9-8370-D4738F3A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897-17D4-4B36-9ED5-951F2484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193-E8D8-4DC4-9460-370C4DAC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66D-B8F5-49AA-BCB5-6096E4A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A67-CD52-470D-A653-A82297B7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12F-2A25-4453-AFDA-CC67EA75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145-BF01-476B-8A4D-F73BDE2C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907-0DA3-4ACF-A861-7C362FD1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E54-2688-4AE3-AB92-F40FF7F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EAD3-D484-4576-8AEA-13FB8059C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42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43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1332000" y="836640"/>
            <a:ext cx="6524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3068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26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26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near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419640" y="3213000"/>
            <a:ext cx="2485800" cy="1798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661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29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29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between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 4" descr="entre.gif"/>
          <p:cNvPicPr/>
          <p:nvPr/>
        </p:nvPicPr>
        <p:blipFill>
          <a:blip r:embed="rId2"/>
          <a:stretch/>
        </p:blipFill>
        <p:spPr>
          <a:xfrm>
            <a:off x="3635280" y="3141720"/>
            <a:ext cx="2054160" cy="1797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250"/>
                            </p:stCondLst>
                            <p:childTnLst>
                              <p:par>
                                <p:cTn id="7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722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6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6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6" name="Image 0" descr="dans.gif"/>
          <p:cNvPicPr/>
          <p:nvPr/>
        </p:nvPicPr>
        <p:blipFill>
          <a:blip r:embed="rId2"/>
          <a:stretch/>
        </p:blipFill>
        <p:spPr>
          <a:xfrm>
            <a:off x="3995640" y="3068640"/>
            <a:ext cx="1181160" cy="1797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in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9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9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in front of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2" descr="devant.gif"/>
          <p:cNvPicPr/>
          <p:nvPr/>
        </p:nvPicPr>
        <p:blipFill>
          <a:blip r:embed="rId2"/>
          <a:stretch/>
        </p:blipFill>
        <p:spPr>
          <a:xfrm>
            <a:off x="3924360" y="3213000"/>
            <a:ext cx="132408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25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10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11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behind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 1" descr="derriere.gif"/>
          <p:cNvPicPr/>
          <p:nvPr/>
        </p:nvPicPr>
        <p:blipFill>
          <a:blip r:embed="rId2"/>
          <a:stretch/>
        </p:blipFill>
        <p:spPr>
          <a:xfrm>
            <a:off x="3995640" y="3141720"/>
            <a:ext cx="1042920" cy="180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19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14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on the left of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3068640"/>
            <a:ext cx="1860480" cy="180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75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29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16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16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under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mage 6" descr="sous.gif"/>
          <p:cNvPicPr/>
          <p:nvPr/>
        </p:nvPicPr>
        <p:blipFill>
          <a:blip r:embed="rId2"/>
          <a:stretch/>
        </p:blipFill>
        <p:spPr>
          <a:xfrm>
            <a:off x="3419640" y="3357720"/>
            <a:ext cx="2357280" cy="1798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75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32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19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19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next to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1946160" cy="1798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429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21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21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on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 5" descr="sur.gif"/>
          <p:cNvPicPr/>
          <p:nvPr/>
        </p:nvPicPr>
        <p:blipFill>
          <a:blip r:embed="rId2"/>
          <a:stretch/>
        </p:blipFill>
        <p:spPr>
          <a:xfrm>
            <a:off x="3564000" y="3068640"/>
            <a:ext cx="1896840" cy="1798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46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24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24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on the right of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64000" y="3068640"/>
            <a:ext cx="1925640" cy="1798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6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0:15:48Z</dcterms:created>
  <dc:creator>nocas</dc:creator>
  <dc:description/>
  <dc:language>en-US</dc:language>
  <cp:lastModifiedBy>nocas</cp:lastModifiedBy>
  <dcterms:modified xsi:type="dcterms:W3CDTF">2009-04-12T11:38:04Z</dcterms:modified>
  <cp:revision>10</cp:revision>
  <dc:subject/>
  <dc:title>Diapositivo 1</dc:title>
</cp:coreProperties>
</file>